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6BE-CB21-4E76-A74B-5B6B3CBA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B52-A418-4A2C-BA69-A35083B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044-1DAD-4378-ABEA-7EFE24FA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3B5-0D84-4177-88F9-29AE3FB2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9E5B-7AD4-4093-BCD8-57FE8CDC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E4AE-DDB3-4157-B053-6BF69D40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4D49-3F13-4F2D-9FC7-F165464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3532-9C76-4511-8364-4F04725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585-37BE-4355-930E-667CFDE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4A21-DD53-44AB-A4D5-FF447F78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B99-C2D2-4BC3-8CA0-8A446A5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A03-4CAD-4619-9F96-56274C8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02CA-49C6-40BF-AE5E-01C68C7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356B-DF43-4349-8E7B-37706F6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53A-A8AD-417C-89D0-15EFBF9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2F05-B3D7-4DAE-B644-73FB3C5C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452-F8B3-4681-BFD1-3EDFA436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009-C2BA-4382-B00B-E1B6117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86E-9673-4D20-BC28-82D6C40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547-86A0-4536-9506-DF391D6E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957-631C-4F47-8903-49EAC005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425-114E-42D4-A560-B4B7645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A70-4628-45DE-8271-13E08B3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EAC-B8C8-4896-8719-3BCCC5C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F513-07AF-4685-A96F-CD0097EE02B1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4DEC-40C9-42BB-A652-E0EA15897609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orangutans.com.au/" TargetMode="External"/><Relationship Id="rId3" Type="http://schemas.openxmlformats.org/officeDocument/2006/relationships/hyperlink" Target="http://www.youtube.com/watch?v=g_PSSwtjZiE&amp;feature=player_embedded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58760" y="755640"/>
            <a:ext cx="9326520" cy="323676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146160" y="1146240"/>
            <a:ext cx="9235800" cy="229212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BOYCOTT MEANS: TO REFUSE A COMPANY’S BUSINESS OR PRODUCT BECAUSE THEY ARE DOING THE WRONG THING.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WE CAN BOYCOTT BY REFUSING TO BUY THEIR PRODUCTS UNTIL THEY DO THE RIGHT THING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IF EVERYONE BOYCOTTS THE BUSINESS PRODUCT, WHY MIGHT THIS WORK?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536400" y="-30240"/>
            <a:ext cx="8242560" cy="179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735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Video 1: 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orangutans.com.au/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Video 2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youtube.com/watch?v=g_PSSwtjZiE&amp;feature=player_embedded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9" name="Date Placeholder 5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-85680" y="536400"/>
            <a:ext cx="9169200" cy="2382840"/>
          </a:xfrm>
          <a:prstGeom prst="rect">
            <a:avLst/>
          </a:prstGeom>
          <a:ln w="0">
            <a:noFill/>
          </a:ln>
        </p:spPr>
      </p:pic>
      <p:sp>
        <p:nvSpPr>
          <p:cNvPr id="13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116000" y="2924280"/>
            <a:ext cx="54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(Group A discuss Video 1, Group B discuss Video 2)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What did you see? (Describe two negative scenes and two positive scenes)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What was the message? 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Conclude: so...what IS the situation?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963720" y="-6480"/>
            <a:ext cx="7100640" cy="1987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42840">
              <a:spcBef>
                <a:spcPts val="499"/>
              </a:spcBef>
              <a:buClr>
                <a:srgbClr val="d7de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They are considered to be highly intelligent animal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>
              <a:spcBef>
                <a:spcPts val="499"/>
              </a:spcBef>
              <a:buClr>
                <a:srgbClr val="d7de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When a number of orang-utans come together to eat, the youngsters often play together while the adults ignore one another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>
              <a:spcBef>
                <a:spcPts val="499"/>
              </a:spcBef>
              <a:buClr>
                <a:srgbClr val="d7de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Male orang-utans are territorial. They sometimes fight against other male orang-utans, defending their territorie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1. VOCAB 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2. Research topic: ORANG-UTAN’S PREDATOR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-6480" y="16524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755640" y="1484280"/>
            <a:ext cx="789300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e3e9dd"/>
                </a:solidFill>
                <a:latin typeface="Arial"/>
              </a:rPr>
              <a:t>OUTLINE: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PELLING TEST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IND MAP RESPONSE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GLOSSARY SHEET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AF FACTS: FOOD, SHELTER/LIVING, HABITAT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CLASS ACTIVITIES: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 lvl="1" marL="49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WO THINGS YOU LEARNT FROM THE ZOO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 lvl="1" marL="49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BOYCOTTING PALM OIL : WHAT, HOW AND WHY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 lvl="1" marL="49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ALM OIL PRODUCTS: WATCH OUT!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VOCAB; Research topic: ORANG-UTAN’S PREDATOR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7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603360" y="49320"/>
            <a:ext cx="8412120" cy="2517840"/>
          </a:xfrm>
          <a:prstGeom prst="rect">
            <a:avLst/>
          </a:prstGeom>
          <a:ln w="0">
            <a:noFill/>
          </a:ln>
        </p:spPr>
      </p:pic>
      <p:sp>
        <p:nvSpPr>
          <p:cNvPr id="90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92" name="Picture 10" descr="http://www.african-safari-journals.com/image-files/orangutan-pictures.jpg"/>
          <p:cNvPicPr/>
          <p:nvPr/>
        </p:nvPicPr>
        <p:blipFill>
          <a:blip r:embed="rId2"/>
          <a:stretch/>
        </p:blipFill>
        <p:spPr>
          <a:xfrm>
            <a:off x="3059280" y="2565360"/>
            <a:ext cx="3240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836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BETHANY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EMILY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TOBY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DYLAN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SARAH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REBECCA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GEORGIA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63680" y="1816200"/>
            <a:ext cx="8242200" cy="214632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07" name="Picture 7" descr="http://www.celsias.co.nz/media/uploads/admin/product-selection.jpg"/>
          <p:cNvPicPr/>
          <p:nvPr/>
        </p:nvPicPr>
        <p:blipFill>
          <a:blip r:embed="rId2"/>
          <a:stretch/>
        </p:blipFill>
        <p:spPr>
          <a:xfrm>
            <a:off x="1547640" y="1628640"/>
            <a:ext cx="56772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1" name="Picture 7" descr="http://img.alibaba.com/photo/11451535/Palm_Oil_Products_Soap_Lotion_Shower_Foam_Hair_Oil.jpg"/>
          <p:cNvPicPr/>
          <p:nvPr/>
        </p:nvPicPr>
        <p:blipFill>
          <a:blip r:embed="rId2"/>
          <a:stretch/>
        </p:blipFill>
        <p:spPr>
          <a:xfrm>
            <a:off x="1403280" y="1341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5" name="Picture 2" descr="http://www.blog.thesietch.org/wp-content/uploads/2008/04/shopping-palm-oil-products.jpg"/>
          <p:cNvPicPr/>
          <p:nvPr/>
        </p:nvPicPr>
        <p:blipFill>
          <a:blip r:embed="rId2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0:01:51Z</dcterms:created>
  <dc:creator>Taylor</dc:creator>
  <dc:description/>
  <dc:language>en-US</dc:language>
  <cp:lastModifiedBy>Education</cp:lastModifiedBy>
  <dcterms:modified xsi:type="dcterms:W3CDTF">2010-08-03T02:50:42Z</dcterms:modified>
  <cp:revision>46</cp:revision>
  <dc:subject/>
  <dc:title>DEFORESTATION</dc:title>
</cp:coreProperties>
</file>